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F9D-6F18-4866-8B89-821F9AEF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CCD-F077-486D-A058-6243E4DC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B01-2808-48AA-803A-28D24BA6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397-BE94-44A1-89B7-3DC67CC8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12DAF-7EAD-43A6-BF13-0726ECAD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BB7D0-A793-4EF6-BFE2-D815AE54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C4D93-0971-4EF6-8D0C-0147354C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AB6DE-0114-4A67-9EC3-778DEB7E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DA847-1F05-4633-9FFF-17521593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A381A-57B3-459E-AE66-C4DA3565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F997F-A4C4-488F-8E00-C497A1D6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D91-FA25-4BCF-B3CA-84A3F729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C25AA-B72D-45FD-B208-1EC3604E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6B7AD-674C-4A3D-A92B-198A3728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05F05-9862-47C2-8F0A-ECFE4B22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3DFA6-7A3D-49AF-87B0-6C8CBE4F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412AD-3876-4A45-961A-03DE67D5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B47-E941-47D4-A33F-8B846265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606-487B-4034-97A6-758C65C8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8D7-E960-40B0-93F3-E5BB5422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375-426F-4061-9D00-239D174E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438-3BDF-4E8F-8810-301D3BEC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50F-5B6A-4FA5-A5D6-2D839153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191-7AC9-46B4-BA31-B48D0767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EB08-2965-434A-9C42-800D70EB74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A1BC-9FF0-46B3-91D8-BA04AF5672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The Galapagos Islands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Less than 1 mile off the coast of Equ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islands are close together habitat is very different on each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resource for comparing Darwin’s new ob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question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ld the variety of species found on each island once belonged to the same spec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aa00"/>
                </a:solidFill>
                <a:latin typeface="Arial"/>
              </a:rPr>
              <a:t>15-2: Other Idea’s That Shaped Darwin’s Thinking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ing Idea’s about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mes Hutton, 1785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rth is not just 10000 years ol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has changed shape through geological forces taking place over extremely long periods of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is millions of years old.  (How old do we believe Earth to be 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les Lyell, 183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rot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nciples of Geolog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arwin read his book while on the Beagle.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that changed the Earth in the past are still happening now. –Earth is still chang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canic eruptions, earthquakes, erosion, flood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an-Baptiste Lamarck, 18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to recognize that living things have changed over time.  He published his ideas the year Darwin was bo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ms had an innate tendency to become more complex and per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ms could continually acquire or lose characteristics to help them live more successfu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ms could pass desired traits on to offspr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ark’s idea had many faults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Lamark paved the way for the work of later biologists his idea was incorrect.  What was wrong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47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omas Malthus, 1798, an econom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d that birthrate exceeded death rate= population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uman population continued to grow we would run out of food and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forces that kept such growth in check: war, famine, disease, natural disa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win thought his idea was easier to aplly to animals and plants tha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2:16:48Z</dcterms:created>
  <dc:creator>Brian and Megan Gallagher</dc:creator>
  <dc:description/>
  <dc:language>en-US</dc:language>
  <cp:lastModifiedBy>udsd</cp:lastModifiedBy>
  <dcterms:modified xsi:type="dcterms:W3CDTF">2010-05-25T18:27:26Z</dcterms:modified>
  <cp:revision>6</cp:revision>
  <dc:subject/>
  <dc:title>Darwin’s TheEvolution</dc:title>
</cp:coreProperties>
</file>